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161-F532-40AE-80A1-A0AB48B7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723-8677-43A2-91B9-E47C68E7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D4A-64AD-4863-B2F5-A89453BA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CB3-D289-4447-9C99-E9047B95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998-F994-4971-BD40-AE203123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E7D-4467-4B51-BC8B-B0D78F8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6789-A98A-4F97-913F-4FEC2E4E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E9F-2932-4488-AFE2-03D27FAD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14B-ED4D-4228-A22B-58189B68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6E8-EA0E-47E2-82C2-14492BEC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21E-0577-4CF0-9AED-E31E2EC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1BC-7D8C-4829-BD8F-29B8916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0248-7115-472C-B7C9-6AA122081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WA Customer Service Worker Stress Surv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 Enviro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% of customer service workers reported indoor air qua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said their work area is too clut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% indicated their work area is too no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% need more privacy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9% experienced stress/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fatigue/exhau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% sleeping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% anger/irr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% head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serious health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% experience heartburn/in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% high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% ches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% of customer service workers had seen a doctor, medical practitioner, or counselor regarding health effects associated with job s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WA Customer Service Survey was limited to a relatively small number of participants, but the identified data suggests a real need for the Union to take the issue of job stress and working conditions “head o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ocal union customer service/occupational safety and health committ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job stress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with National CWA Customer Service Advocate Committee for ongo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4 members from several telecommunications and media locals completed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questions targeted job stress factors and health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tress factors may be described in terms of job controls and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b control 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or how little control do customer service workers have over their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security/in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-shoring, outsourcing, fear of layo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recognition for performed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promotion opportun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a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de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and amount of production/performance pressures on customer service workers and quality of physical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ced overtime/speed-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performance/supervisor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k of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adequate physical design of work equipment and tools and overall 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% of customer service representatives  work full-time schedule 37.5-40 hrs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indicated pressure to work over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worked overtime every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% worked overtime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% said management sets work pace/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2% reported monitoring by superviso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reported electronic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% indicated numbers, productivity, and adherence to rules and quotas were more important than doing the job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% reported introduction of new technology led to increased work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said equipment/computers malfunction or need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s Beyond the Workp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% reported taking job stres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come home too tired to do things they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% indicated work takes away from personal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% worried that co-workers home situations will carry over into the workplace causing disruptions or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Satisf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feel stressed/burned out from thei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said workload is too high often/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said work pressure is too high often/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said there is an unfair division of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% reported management does NOT listen to worker proposals, suggestions, or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indicated management does NOT consult workers regarding work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% need more training to do job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9% indicated they do not have/are not provided time to become proficient in necessary job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% said they are not provided advance notice/training on new product offe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4:42:03Z</dcterms:created>
  <dc:creator>Dave LeGrande</dc:creator>
  <dc:description/>
  <dc:language>en-US</dc:language>
  <cp:lastModifiedBy>CRothman</cp:lastModifiedBy>
  <dcterms:modified xsi:type="dcterms:W3CDTF">2012-10-12T18:42:45Z</dcterms:modified>
  <cp:revision>5</cp:revision>
  <dc:subject/>
  <dc:title>CWA Customer Service Occupational Stress Survey</dc:title>
</cp:coreProperties>
</file>