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7AC-05EC-4B63-9C5C-CBCDA8BE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746-4D49-49D8-889A-BAA1BE83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9065-8C8B-488F-A2B6-8B7CE71A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2DA-49BD-4C34-93D1-4A9C81CB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E4C-B212-4AA9-AA9F-0334C56A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258-57E6-47FA-BA75-29C99F81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43B-D632-4545-9A72-5EB9A977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7A4-148C-4AB5-A0BB-AEF3280C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136-C13F-4360-BA62-F0DBCE97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701-3873-4E3A-87A3-5BB13A59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9A1-EA6A-4FFC-99B5-9E07CD9B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29A-0F45-4E17-B3B3-37C39723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9BBD-6041-4886-830E-A8BBB1706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WA Customer Service Worker Stress Surv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 Environ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% of customer service workers reported indoor air qualit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% said their work area is too clut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% indicated their work area is too noi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% need more privacy a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9% experienced stress/anx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fatigue/exhau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9% sleep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% anger/irri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% head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serious health proble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% experience heartburn/in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% high 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% chest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4% of customer service workers had seen a doctor, medical practitioner, or counselor regarding health effects associated with job st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WA Customer Service Survey was limited to a relatively small number of participants, but the identified data suggests a real need for the Union to take the issue of job stress and working conditions “head on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ocal union customer service/occupational safety and health committ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job stress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with National CWA Customer Service Advocate Committee for ongoing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4 members from several telecommunications and media locals completed th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questions targeted job stress factors and health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tress factors may be described in terms of job controls and job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b control 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or how little control do customer service workers have over their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security/in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-shoring, outsourcing, fear of layo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k of recognition for performe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k of promotion opportunit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a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de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and amount of production/performance pressures on customer service workers and quality of physical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ced overtime/speed-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ic performance/supervisor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k of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adequate physical design of work equipment and tools and overall work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d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7% of customer service representatives  work full-time schedule 37.5-40 hrs/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% indicated pressure to work over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% worked overtime every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% worked overtime mont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% said management sets work pace/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2% reported monitoring by superviso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reported electronic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% indicated numbers, productivity, and adherence to rules and quotas were more important than doing the job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9% reported introduction of new technology led to increased work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said equipment/computers malfunction or need 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St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s Beyond the Workpl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8% reported taking job stress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% come home too tired to do things they li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% indicated work takes away from personal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% worried that co-workers home situations will carry over into the workplace causing disruptions or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Satisf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feel stressed/burned out from their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% said workload is too high often/al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% said work pressure is too high often/al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said there is an unfair division of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4% reported management does NOT listen to worker proposals, suggestions, or id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indicated management does NOT consult workers regarding work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7% need more training to do job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9% indicated they do not have/are not provided time to become proficient in necessary job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6% said they are not provided advance notice/training on new product offe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4:42:03Z</dcterms:created>
  <dc:creator>Dave LeGrande</dc:creator>
  <dc:description/>
  <dc:language>en-US</dc:language>
  <cp:lastModifiedBy>CRothman</cp:lastModifiedBy>
  <dcterms:modified xsi:type="dcterms:W3CDTF">2012-10-12T18:42:45Z</dcterms:modified>
  <cp:revision>5</cp:revision>
  <dc:subject/>
  <dc:title>CWA Customer Service Occupational Stress Survey</dc:title>
</cp:coreProperties>
</file>